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EC45-BD89-40FB-8D43-1381D17A7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BD13-F3BC-46E5-AF49-586D9AB3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A752-989E-478C-B3F2-C6CAFDEF6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5C4B-DCE7-46BD-913D-9802F81F7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E7EA-7F23-4E23-BBEC-74A55DF4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772B-B6C7-41E5-9027-6B98380F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675A-672C-4CA4-9870-07E4A563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3F38-A458-4509-A14D-3651E086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1F74-A10A-4A57-9345-135F01FB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EE9D-43EF-4991-8D00-68EA2963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78F3-886D-4747-A979-EEF041A1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6638-D5F6-4F25-88F9-B6C3B564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6DBE-2E82-4617-B4E2-035D22800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7772400" cy="1470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 Glob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11280" y="3141720"/>
            <a:ext cx="46087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11280" y="1268280"/>
            <a:ext cx="3780000" cy="10083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971640" y="2205000"/>
            <a:ext cx="230328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933720"/>
            <a:ext cx="2016000" cy="1150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RIDUZIONE DISTAN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0920" y="5229360"/>
            <a:ext cx="1729080" cy="12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Black"/>
              </a:rPr>
              <a:t>STILI DI VITA PIU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Black"/>
              </a:rPr>
              <a:t>SIMI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84720" y="2276640"/>
            <a:ext cx="360360" cy="172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51280" y="3933720"/>
            <a:ext cx="1584360" cy="1152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LIBE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IRCOL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MER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24360" y="4508640"/>
            <a:ext cx="1619280" cy="1557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LIB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IRCOL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ERS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484280"/>
            <a:ext cx="2376360" cy="936720"/>
          </a:xfrm>
          <a:custGeom>
            <a:avLst/>
            <a:gdLst>
              <a:gd name="textAreaLeft" fmla="*/ 297000 w 2376360"/>
              <a:gd name="textAreaRight" fmla="*/ 2079360 w 2376360"/>
              <a:gd name="textAreaTop" fmla="*/ 234000 h 936720"/>
              <a:gd name="textAreaBottom" fmla="*/ 702720 h 936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Miglioramen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Mezzi di comun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45440" y="2852640"/>
            <a:ext cx="1798560" cy="1152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EMIGR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ITT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MULTICULTUR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7093080" y="4005360"/>
            <a:ext cx="9349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627280" y="2276640"/>
            <a:ext cx="1008000" cy="30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2205000"/>
            <a:ext cx="1368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852200">
            <a:off x="485280" y="264600"/>
            <a:ext cx="2303640" cy="1081080"/>
          </a:xfrm>
          <a:prstGeom prst="rightArrow">
            <a:avLst>
              <a:gd name="adj1" fmla="val 44333"/>
              <a:gd name="adj2" fmla="val 65968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MIGLIORAMENTO ME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RASPOR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08:07:28Z</dcterms:created>
  <dc:creator>informatica20</dc:creator>
  <dc:description/>
  <dc:language>en-US</dc:language>
  <cp:lastModifiedBy>s</cp:lastModifiedBy>
  <dcterms:modified xsi:type="dcterms:W3CDTF">2017-02-13T08:55:07Z</dcterms:modified>
  <cp:revision>7</cp:revision>
  <dc:subject/>
  <dc:title>Diapositiva 1</dc:title>
</cp:coreProperties>
</file>